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107.wmf" ContentType="image/x-wmf"/>
  <Override PartName="/ppt/media/image59.gif" ContentType="image/gif"/>
  <Override PartName="/ppt/media/image7.wmf" ContentType="image/x-wmf"/>
  <Override PartName="/ppt/media/image19.wmf" ContentType="image/x-wmf"/>
  <Override PartName="/ppt/media/image110.gif" ContentType="image/gif"/>
  <Override PartName="/ppt/media/image55.wmf" ContentType="image/x-wmf"/>
  <Override PartName="/ppt/media/image95.gif" ContentType="image/gif"/>
  <Override PartName="/ppt/media/image53.gif" ContentType="image/gif"/>
  <Override PartName="/ppt/media/image52.gif" ContentType="image/gif"/>
  <Override PartName="/ppt/media/image49.wmf" ContentType="image/x-wmf"/>
  <Override PartName="/ppt/media/image100.wmf" ContentType="image/x-wmf"/>
  <Override PartName="/ppt/media/image48.wmf" ContentType="image/x-wmf"/>
  <Override PartName="/ppt/media/image88.gif" ContentType="image/gif"/>
  <Override PartName="/ppt/media/image47.wmf" ContentType="image/x-wmf"/>
  <Override PartName="/ppt/media/image13.jpeg" ContentType="image/jpeg"/>
  <Override PartName="/ppt/media/image87.gif" ContentType="image/gif"/>
  <Override PartName="/ppt/media/image46.gif" ContentType="image/gif"/>
  <Override PartName="/ppt/media/image71.wmf" ContentType="image/x-wmf"/>
  <Override PartName="/ppt/media/image43.gif" ContentType="image/gif"/>
  <Override PartName="/ppt/media/image42.gif" ContentType="image/gif"/>
  <Override PartName="/ppt/media/image44.gif" ContentType="image/gif"/>
  <Override PartName="/ppt/media/image40.wmf" ContentType="image/x-wmf"/>
  <Override PartName="/ppt/media/image39.wmf" ContentType="image/x-wmf"/>
  <Override PartName="/ppt/media/image38.wmf" ContentType="image/x-wmf"/>
  <Override PartName="/ppt/media/image78.gif" ContentType="image/gi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2.gif" ContentType="image/gif"/>
  <Override PartName="/ppt/media/image30.gif" ContentType="image/gif"/>
  <Override PartName="/ppt/media/image41.gif" ContentType="image/gif"/>
  <Override PartName="/ppt/media/image12.jpeg" ContentType="image/jpeg"/>
  <Override PartName="/ppt/media/image37.wmf" ContentType="image/x-wmf"/>
  <Override PartName="/ppt/media/image77.gif" ContentType="image/gif"/>
  <Override PartName="/ppt/media/image58.gif" ContentType="image/gif"/>
  <Override PartName="/ppt/media/image18.wmf" ContentType="image/x-wmf"/>
  <Override PartName="/ppt/media/image54.wmf" ContentType="image/x-wmf"/>
  <Override PartName="/ppt/media/image29.gif" ContentType="image/gif"/>
  <Override PartName="/ppt/media/image10.jpeg" ContentType="image/jpeg"/>
  <Override PartName="/ppt/media/image57.gif" ContentType="image/gif"/>
  <Override PartName="/ppt/media/image17.wmf" ContentType="image/x-wmf"/>
  <Override PartName="/ppt/media/image45.gif" ContentType="image/gif"/>
  <Override PartName="/ppt/media/image8.jpeg" ContentType="image/jpeg"/>
  <Override PartName="/ppt/media/image51.wmf" ContentType="image/x-wmf"/>
  <Override PartName="/ppt/media/image26.gif" ContentType="image/gif"/>
  <Override PartName="/ppt/media/image9.jpeg" ContentType="image/jpeg"/>
  <Override PartName="/ppt/media/image11.jpeg" ContentType="image/jpeg"/>
  <Override PartName="/ppt/media/image67.gif" ContentType="image/gif"/>
  <Override PartName="/ppt/media/image92.wmf" ContentType="image/x-wmf"/>
  <Override PartName="/ppt/media/image20.gif" ContentType="image/gif"/>
  <Override PartName="/ppt/media/image117.gif" ContentType="image/gif"/>
  <Override PartName="/ppt/media/image31.wmf" ContentType="image/x-wmf"/>
  <Override PartName="/ppt/media/image5.gif" ContentType="image/gif"/>
  <Override PartName="/ppt/media/image82.gif" ContentType="image/gif"/>
  <Override PartName="/ppt/media/image16.wmf" ContentType="image/x-wmf"/>
  <Override PartName="/ppt/media/image4.gif" ContentType="image/gif"/>
  <Override PartName="/ppt/media/image81.gif" ContentType="image/gif"/>
  <Override PartName="/ppt/media/image73.wmf" ContentType="image/x-wmf"/>
  <Override PartName="/ppt/media/image74.wmf" ContentType="image/x-wmf"/>
  <Override PartName="/ppt/media/image75.wmf" ContentType="image/x-wmf"/>
  <Override PartName="/ppt/media/image101.gif" ContentType="image/gif"/>
  <Override PartName="/ppt/media/image91.wmf" ContentType="image/x-wmf"/>
  <Override PartName="/ppt/media/image83.gif" ContentType="image/gif"/>
  <Override PartName="/ppt/media/image84.gif" ContentType="image/gif"/>
  <Override PartName="/ppt/media/image105.wmf" ContentType="image/x-wmf"/>
  <Override PartName="/ppt/media/image90.wmf" ContentType="image/x-wmf"/>
  <Override PartName="/ppt/media/image65.gif" ContentType="image/gif"/>
  <Override PartName="/ppt/media/image61.wmf" ContentType="image/x-wmf"/>
  <Override PartName="/ppt/media/image21.wmf" ContentType="image/x-wmf"/>
  <Override PartName="/ppt/media/image6.jpeg" ContentType="image/jpeg"/>
  <Override PartName="/ppt/media/image50.wmf" ContentType="image/x-wmf"/>
  <Override PartName="/ppt/media/image25.gif" ContentType="image/gif"/>
  <Override PartName="/ppt/media/image109.gif" ContentType="image/gif"/>
  <Override PartName="/ppt/media/image80.png" ContentType="image/png"/>
  <Override PartName="/ppt/media/image120.wmf" ContentType="image/x-wmf"/>
  <Override PartName="/ppt/media/image114.wmf" ContentType="image/x-wmf"/>
  <Override PartName="/ppt/media/image118.gif" ContentType="image/gif"/>
  <Override PartName="/ppt/media/image3.jpeg" ContentType="image/jpeg"/>
  <Override PartName="/ppt/media/image79.wmf" ContentType="image/x-wmf"/>
  <Override PartName="/ppt/media/image113.gif" ContentType="image/gif"/>
  <Override PartName="/ppt/media/image27.gif" ContentType="image/gif"/>
  <Override PartName="/ppt/media/image116.gif" ContentType="image/gif"/>
  <Override PartName="/ppt/media/image104.wmf" ContentType="image/x-wmf"/>
  <Override PartName="/ppt/media/image108.gif" ContentType="image/gif"/>
  <Override PartName="/ppt/media/image102.gif" ContentType="image/gif"/>
  <Override PartName="/ppt/media/image76.wmf" ContentType="image/x-wmf"/>
  <Override PartName="/ppt/media/image96.wmf" ContentType="image/x-wmf"/>
  <Override PartName="/ppt/media/image103.wmf" ContentType="image/x-wmf"/>
  <Override PartName="/ppt/media/image23.wmf" ContentType="image/x-wmf"/>
  <Override PartName="/ppt/media/image63.gif" ContentType="image/gif"/>
  <Override PartName="/ppt/media/image111.gif" ContentType="image/gif"/>
  <Override PartName="/ppt/media/image85.wmf" ContentType="image/x-wmf"/>
  <Override PartName="/ppt/media/image97.gif" ContentType="image/gif"/>
  <Override PartName="/ppt/media/image60.gif" ContentType="image/gif"/>
  <Override PartName="/ppt/media/image14.wmf" ContentType="image/x-wmf"/>
  <Override PartName="/ppt/media/image28.wmf" ContentType="image/x-wmf"/>
  <Override PartName="/ppt/media/image93.wmf" ContentType="image/x-wmf"/>
  <Override PartName="/ppt/media/image112.gif" ContentType="image/gif"/>
  <Override PartName="/ppt/media/image86.wmf" ContentType="image/x-wmf"/>
  <Override PartName="/ppt/media/image106.wmf" ContentType="image/x-wmf"/>
  <Override PartName="/ppt/media/image2.jpeg" ContentType="image/jpeg"/>
  <Override PartName="/ppt/media/image99.wmf" ContentType="image/x-wmf"/>
  <Override PartName="/ppt/media/image98.gif" ContentType="image/gif"/>
  <Override PartName="/ppt/media/image15.wmf" ContentType="image/x-wmf"/>
  <Override PartName="/ppt/media/image70.gif" ContentType="image/gif"/>
  <Override PartName="/ppt/media/image64.gif" ContentType="image/gif"/>
  <Override PartName="/ppt/media/image24.wmf" ContentType="image/x-wmf"/>
  <Override PartName="/ppt/media/image94.wmf" ContentType="image/x-wmf"/>
  <Override PartName="/ppt/media/image69.gif" ContentType="image/gif"/>
  <Override PartName="/ppt/media/image68.wmf" ContentType="image/x-wmf"/>
  <Override PartName="/ppt/media/image66.wmf" ContentType="image/x-wmf"/>
  <Override PartName="/ppt/media/image119.wmf" ContentType="image/x-wmf"/>
  <Override PartName="/ppt/media/image22.wmf" ContentType="image/x-wmf"/>
  <Override PartName="/ppt/media/image62.gif" ContentType="image/gif"/>
  <Override PartName="/ppt/media/image115.gif" ContentType="image/gif"/>
  <Override PartName="/ppt/media/image89.wmf" ContentType="image/x-wmf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0D6-2CBA-4C9C-9E9D-858A03F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C58-C968-4432-A142-06A31EB0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913-3842-45CE-B2C8-FBC5741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8AD-26C2-4195-BFE7-0E9DAEBB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5FA-1F43-40C3-AC78-5C44BB3B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5EB-33B8-42A7-AA5A-BAD12A8A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AE0-512E-45FE-B973-B1A63E2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2EE-4131-4C72-92DE-DCA90A28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6C5-2758-4419-A2FB-8AEFBBDD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448-181F-44BD-89AC-4B554ED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FEF-F646-4494-AE1C-D96C418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006-CEC6-4B33-A736-7CDD4E15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84D-01E4-446F-B2BA-8B8C582FC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wmf"/><Relationship Id="rId6" Type="http://schemas.openxmlformats.org/officeDocument/2006/relationships/image" Target="../media/image67.gif"/><Relationship Id="rId7" Type="http://schemas.openxmlformats.org/officeDocument/2006/relationships/image" Target="../media/image68.wmf"/><Relationship Id="rId8" Type="http://schemas.openxmlformats.org/officeDocument/2006/relationships/image" Target="../media/image69.gif"/><Relationship Id="rId9" Type="http://schemas.openxmlformats.org/officeDocument/2006/relationships/image" Target="../media/image70.gif"/><Relationship Id="rId10" Type="http://schemas.openxmlformats.org/officeDocument/2006/relationships/image" Target="../media/image71.wmf"/><Relationship Id="rId11" Type="http://schemas.openxmlformats.org/officeDocument/2006/relationships/image" Target="../media/image67.gif"/><Relationship Id="rId12" Type="http://schemas.openxmlformats.org/officeDocument/2006/relationships/image" Target="../media/image72.gi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gi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gif"/><Relationship Id="rId2" Type="http://schemas.openxmlformats.org/officeDocument/2006/relationships/image" Target="../media/image79.wmf"/><Relationship Id="rId3" Type="http://schemas.openxmlformats.org/officeDocument/2006/relationships/image" Target="../media/image80.png"/><Relationship Id="rId4" Type="http://schemas.openxmlformats.org/officeDocument/2006/relationships/image" Target="../media/image80.png"/><Relationship Id="rId5" Type="http://schemas.openxmlformats.org/officeDocument/2006/relationships/image" Target="../media/image81.gif"/><Relationship Id="rId6" Type="http://schemas.openxmlformats.org/officeDocument/2006/relationships/image" Target="../media/image82.gif"/><Relationship Id="rId7" Type="http://schemas.openxmlformats.org/officeDocument/2006/relationships/image" Target="../media/image83.gif"/><Relationship Id="rId8" Type="http://schemas.openxmlformats.org/officeDocument/2006/relationships/image" Target="../media/image84.gif"/><Relationship Id="rId9" Type="http://schemas.openxmlformats.org/officeDocument/2006/relationships/image" Target="../media/image85.wmf"/><Relationship Id="rId10" Type="http://schemas.openxmlformats.org/officeDocument/2006/relationships/image" Target="../media/image86.wmf"/><Relationship Id="rId11" Type="http://schemas.openxmlformats.org/officeDocument/2006/relationships/image" Target="../media/image87.gif"/><Relationship Id="rId12" Type="http://schemas.openxmlformats.org/officeDocument/2006/relationships/image" Target="../media/image88.gif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gif"/><Relationship Id="rId4" Type="http://schemas.openxmlformats.org/officeDocument/2006/relationships/image" Target="../media/image96.wmf"/><Relationship Id="rId5" Type="http://schemas.openxmlformats.org/officeDocument/2006/relationships/image" Target="../media/image9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8.gi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gif"/><Relationship Id="rId5" Type="http://schemas.openxmlformats.org/officeDocument/2006/relationships/image" Target="../media/image102.gi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108.gif"/><Relationship Id="rId7" Type="http://schemas.openxmlformats.org/officeDocument/2006/relationships/image" Target="../media/image109.gif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0.gif"/><Relationship Id="rId2" Type="http://schemas.openxmlformats.org/officeDocument/2006/relationships/image" Target="../media/image111.gif"/><Relationship Id="rId3" Type="http://schemas.openxmlformats.org/officeDocument/2006/relationships/image" Target="../media/image112.gif"/><Relationship Id="rId4" Type="http://schemas.openxmlformats.org/officeDocument/2006/relationships/image" Target="../media/image113.gif"/><Relationship Id="rId5" Type="http://schemas.openxmlformats.org/officeDocument/2006/relationships/image" Target="../media/image114.wmf"/><Relationship Id="rId6" Type="http://schemas.openxmlformats.org/officeDocument/2006/relationships/image" Target="../media/image115.gif"/><Relationship Id="rId7" Type="http://schemas.openxmlformats.org/officeDocument/2006/relationships/image" Target="../media/image116.gif"/><Relationship Id="rId8" Type="http://schemas.openxmlformats.org/officeDocument/2006/relationships/image" Target="../media/image117.gif"/><Relationship Id="rId9" Type="http://schemas.openxmlformats.org/officeDocument/2006/relationships/image" Target="../media/image118.gif"/><Relationship Id="rId10" Type="http://schemas.openxmlformats.org/officeDocument/2006/relationships/image" Target="../media/image119.wmf"/><Relationship Id="rId11" Type="http://schemas.openxmlformats.org/officeDocument/2006/relationships/image" Target="../media/image120.wm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LEK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03520" y="1341360"/>
            <a:ext cx="3586320" cy="417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08360" y="333360"/>
            <a:ext cx="1440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İŞÇ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206028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ĞRETM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4897440" cy="255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4824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38480" cy="568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10688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55344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ÜHENDİS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32000" y="1557000"/>
            <a:ext cx="295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TÜRL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22478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3440" y="29685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İ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1080" y="361620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PR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365720"/>
            <a:ext cx="874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İNŞAATININ DÜZGÜN YAPILMASINI SAĞ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48436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14880" y="141300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240000" cy="2235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77012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6360" y="3933720"/>
            <a:ext cx="1938240" cy="193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72360" y="4005360"/>
            <a:ext cx="2079360" cy="22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4520" y="105264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ERİ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924360" y="26989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824120" cy="178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22496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71640" y="3575160"/>
            <a:ext cx="1927080" cy="18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3080" y="278136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798480"/>
            <a:ext cx="1871640" cy="181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180972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1871640" cy="181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2376360" cy="21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132000" y="2349360"/>
            <a:ext cx="209412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00920" y="900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İFTÇ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NSANLAR HER İŞİ KEND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34920" y="3357720"/>
            <a:ext cx="561636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ŞLARINA YAPAMAZ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822680" cy="143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181160"/>
            <a:ext cx="2232000" cy="1611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073240" cy="1771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2087280" cy="198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635280" y="1341360"/>
            <a:ext cx="2355840" cy="29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995640" y="4292640"/>
            <a:ext cx="166536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ÜZİS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1344600" cy="1812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1127160" cy="181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1322280" cy="247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601640" cy="23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948360" y="549360"/>
            <a:ext cx="1646280" cy="225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948360" y="4653000"/>
            <a:ext cx="1584360" cy="1466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68360" y="1125360"/>
            <a:ext cx="1603440" cy="1381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411280" y="3933720"/>
            <a:ext cx="19558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360" y="274320"/>
            <a:ext cx="144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ŞÇ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476280"/>
            <a:ext cx="1105200" cy="120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04000" y="54936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2595600" cy="228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924360" y="12682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00000" y="3645000"/>
            <a:ext cx="1650960" cy="1792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87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61440" y="3716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076720" y="4076640"/>
            <a:ext cx="1824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194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TFAİYEC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84360" y="105264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INLARI SÖNDÜR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309680" cy="182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1987560" cy="1689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2255760" cy="1515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987640" y="1844640"/>
            <a:ext cx="2995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3184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5080" y="620640"/>
            <a:ext cx="12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VA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521000" cy="18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476280"/>
            <a:ext cx="12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I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76720" y="1341360"/>
            <a:ext cx="1463400" cy="1236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8880" y="620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4309920"/>
            <a:ext cx="1444680" cy="133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5640" y="34480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NAKÇ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059280" y="4005360"/>
            <a:ext cx="1304640" cy="1655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57640" y="33764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İRC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940360" y="4437000"/>
            <a:ext cx="1171800" cy="108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8360" y="36450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ETEC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651640" y="1197000"/>
            <a:ext cx="1422360" cy="183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162108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188640"/>
            <a:ext cx="2952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İRCİ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895320" cy="780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895320" cy="780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340000" y="1916280"/>
            <a:ext cx="876240" cy="67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1413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564000" y="981000"/>
            <a:ext cx="1407960" cy="1812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7524720" y="2349360"/>
            <a:ext cx="64764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732720" y="404640"/>
            <a:ext cx="1798560" cy="1797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1476360" y="270828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508720" y="2349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2771640" y="2852640"/>
            <a:ext cx="2024280" cy="16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423720" y="37162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5508720" y="4292640"/>
            <a:ext cx="295092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259920"/>
            <a:ext cx="2879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İZLİK GÖREVLİS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42920" y="1197000"/>
            <a:ext cx="3538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İZLİK İŞLERİNİ YA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1198800" cy="181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554120" cy="180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1809720" cy="1779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96000" y="4653000"/>
            <a:ext cx="1811160" cy="17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419640" y="2276640"/>
            <a:ext cx="2033280" cy="20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093080" y="134136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İRC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37400" y="1844640"/>
            <a:ext cx="1174680" cy="1297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573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1819080" cy="1795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95640" y="765000"/>
            <a:ext cx="1582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K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1401480" cy="143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1619280" y="1773360"/>
            <a:ext cx="1336680" cy="1726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140360" y="907920"/>
            <a:ext cx="186048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3276720" y="4365720"/>
            <a:ext cx="1604880" cy="1471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4643280" y="4941720"/>
            <a:ext cx="1839960" cy="110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 rot="20121000">
            <a:off x="3203280" y="5300280"/>
            <a:ext cx="1674720" cy="681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 rot="17785800">
            <a:off x="4194000" y="54622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4160" y="3789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IKÇ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3348000" y="213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1729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MÜRC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173484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119232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7440" y="3573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2576520" cy="2530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94520" y="342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HÇ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549360"/>
            <a:ext cx="283068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58000" y="352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ÇİCEKÇ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194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İHİRB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1819440" cy="1773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227640" y="4149720"/>
            <a:ext cx="1819440" cy="1733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90160" y="3141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MER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050920" y="2276640"/>
            <a:ext cx="1224000" cy="1001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187280" y="0"/>
            <a:ext cx="1251000" cy="182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572000" y="2349360"/>
            <a:ext cx="1297080" cy="120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65800" y="2060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İ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UN İÇİ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LAŞIM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39640" y="2708280"/>
            <a:ext cx="4825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UNARAK GÜNLÜ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ŞAMLARINIMI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HATLATI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92360" y="260280"/>
            <a:ext cx="122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İ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8000" y="90756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ÜVENLİĞİMİZİ SAĞLAMAK İÇİN ÇALIŞ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1727280" cy="1677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868320" cy="181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3591000" cy="2627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348000" y="249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476360" y="4149720"/>
            <a:ext cx="129528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RC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184320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372360" y="692280"/>
            <a:ext cx="1747800" cy="1830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4581360"/>
            <a:ext cx="1827000" cy="157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11280" y="4221000"/>
            <a:ext cx="1109520" cy="1824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50640" cy="1822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2781360"/>
            <a:ext cx="1726920" cy="1425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164360" y="4581360"/>
            <a:ext cx="14414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136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İŞ 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1162080" cy="95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1123920" cy="809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87240" y="765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851280" y="1484280"/>
            <a:ext cx="1143000" cy="924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292720" y="148428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1733400" cy="1822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797040" cy="50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68360" y="342900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HTAR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2627280" y="4581360"/>
            <a:ext cx="1209600" cy="1105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3780000" y="5300640"/>
            <a:ext cx="1584000" cy="127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77080" y="4005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ŞOF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4160" y="765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516720" y="1268280"/>
            <a:ext cx="960480" cy="1440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23672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İTİK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7596360" y="4581360"/>
            <a:ext cx="1193760" cy="1820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6084720" y="3933720"/>
            <a:ext cx="119880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360" y="184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MESLEĞ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43280" y="3573000"/>
            <a:ext cx="4186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GI DUYMALIY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10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1773360"/>
            <a:ext cx="388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LA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920" y="2997360"/>
            <a:ext cx="7138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İNSAN SAĞLIĞIYLA İLGİLENİ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8000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1123920"/>
            <a:ext cx="5329080" cy="42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827360" cy="193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72360" y="631800"/>
            <a:ext cx="2016000" cy="193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2414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3:57:23Z</dcterms:created>
  <dc:creator>haticeduru</dc:creator>
  <dc:description/>
  <dc:language>en-US</dc:language>
  <cp:lastModifiedBy>Murat</cp:lastModifiedBy>
  <dcterms:modified xsi:type="dcterms:W3CDTF">2010-10-21T18:13:32Z</dcterms:modified>
  <cp:revision>10</cp:revision>
  <dc:subject/>
  <dc:title>MESLEKLER</dc:title>
</cp:coreProperties>
</file>